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0077-3668-48A3-9691-09D578DCB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1A2A-ABAB-42E4-A1C4-BEF8676F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6957-F4EB-4450-AFA4-293EB1A04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EC28-3F1F-48CC-9B12-E594D2B63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71BE-F9BB-45A8-BEA9-BB63549B9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A690-82AD-4428-8A9F-9B0658FF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5223-5CD9-431D-AE30-4DAE66FE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527A-F1CE-4785-8DE3-0DC60DCC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E815-6D54-4989-8D94-ED0C25DB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7E66-9D9D-4CFD-BD85-E0AC9BB2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D395-E7EF-42BB-9C2C-97CA6337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EAFB-5B82-475F-8171-84CBCA24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E4E5-430D-4059-AB07-9A40F12C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FC76-8ED4-44FB-A708-2A4FB20F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47CF-820E-49F5-989B-E916A48F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97DC-04EA-4C82-8133-1A23A7BBD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9499-722D-4994-8802-6D7CC52A2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1331-36DD-4237-AA6B-3844D204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2BF3-86BE-4178-B785-0635864B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985B-7779-44F5-8D90-BDFCF9DB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5140-76DA-4792-86F9-B2C0EE33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45BE-1115-4DD0-984A-9028F252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0F58-CCAF-457E-8487-367BE0B5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5D66-A2CA-4155-A254-279D7F85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F97B-5B30-421A-B4F4-1B2962AF6C29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1A9E-C047-4D49-90E3-B2B90F75ACD1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cognizing Emergencie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Kiah Buc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990720"/>
            <a:ext cx="8001000" cy="91440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ffffff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ea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3810240"/>
          </a:xfrm>
          <a:prstGeom prst="rect">
            <a:avLst/>
          </a:prstGeom>
          <a:noFill/>
          <a:ln w="0">
            <a:noFill/>
          </a:ln>
          <a:effectLst>
            <a:outerShdw dist="154410" dir="4828307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unusual crash or sudden lou</a:t>
            </a:r>
            <a:r>
              <a:rPr b="0" lang="en-US" sz="3200" spc="-1" strike="noStrike">
                <a:solidFill>
                  <a:srgbClr val="ffffff"/>
                </a:solidFill>
                <a:latin typeface="ヒラギノ角ゴ Pro W3"/>
              </a:rPr>
              <a:t>d noi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ヒラギノ角ゴ Pro W3"/>
              </a:rPr>
              <a:t>Screaming or people calling for hel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ヒラギノ角ゴ Pro W3"/>
              </a:rPr>
              <a:t>Unearthly s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905120" y="533520"/>
            <a:ext cx="167616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52480" y="1219320"/>
            <a:ext cx="1409760" cy="761760"/>
          </a:xfrm>
          <a:prstGeom prst="rect">
            <a:avLst/>
          </a:prstGeom>
          <a:noFill/>
          <a:ln w="0">
            <a:noFill/>
          </a:ln>
          <a:effectLst>
            <a:outerShdw dist="177939" dir="20518097" blurRad="0" rotWithShape="0">
              <a:srgbClr val="808080">
                <a:alpha val="67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  <a:effectLst>
            <a:outerShdw dist="50904" dir="19382944" blurRad="0" rotWithShape="0">
              <a:srgbClr val="808080">
                <a:alpha val="62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8ac"/>
                </a:solidFill>
                <a:latin typeface="Arial"/>
              </a:rPr>
              <a:t>Something out of pla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ike a flipped c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dd liquid that is spi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ken gla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80720" y="1066680"/>
            <a:ext cx="3505320" cy="914400"/>
          </a:xfrm>
          <a:prstGeom prst="rect">
            <a:avLst/>
          </a:prstGeom>
          <a:noFill/>
          <a:ln w="0">
            <a:noFill/>
          </a:ln>
          <a:effectLst>
            <a:outerShdw dist="126828" dir="2941695" blurRad="0" rotWithShape="0">
              <a:srgbClr val="808080">
                <a:alpha val="67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mel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  <a:effectLst>
            <a:outerShdw dist="211927" dir="6419294" blurRad="0" rotWithShape="0">
              <a:srgbClr val="808080">
                <a:alpha val="67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usually strong sm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on-recognizable sm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lo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715000" y="990720"/>
            <a:ext cx="1981080" cy="3124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12:53:40Z</dcterms:created>
  <dc:creator>Kraybill Campus LMS</dc:creator>
  <dc:description/>
  <dc:language>en-US</dc:language>
  <cp:lastModifiedBy>Kraybill Campus LMS</cp:lastModifiedBy>
  <dcterms:modified xsi:type="dcterms:W3CDTF">2011-05-26T16:08:02Z</dcterms:modified>
  <cp:revision>12</cp:revision>
  <dc:subject/>
  <dc:title>PowerPoint Presentation</dc:title>
</cp:coreProperties>
</file>